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312560" y="1026720"/>
            <a:ext cx="493236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3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1" lang="en-US" sz="33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432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C270DC-5C1E-4876-A848-C63E183B1ED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3320" cy="4008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745333-4121-4785-87C2-BD13546F747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3320" cy="40082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F936E7-56CD-4DE6-ABFE-E91B3663217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3320" cy="40082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BA3ECF-52D9-4B27-A3A9-187CA945C67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3320" cy="40082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40520C-DD34-42C4-A60B-5296AE86B72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3320" cy="40082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1F2834-5F93-4A20-879D-31AD88A81716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3320" cy="4008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4A1DFB-1346-433F-8EDA-46FE037729B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3320" cy="40082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E5B6AE-A581-4D63-BD02-07BAE6C82F5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3320" cy="40082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74DD37-4519-40ED-86B0-D200EBFF205A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3320" cy="40082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D72F3B-93C6-4157-A344-97696F37986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3320" cy="4008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40880" y="415800"/>
            <a:ext cx="860580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3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40880" y="1576080"/>
            <a:ext cx="860580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740880" y="3440880"/>
            <a:ext cx="860580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40880" y="415800"/>
            <a:ext cx="860580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3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40880" y="1576080"/>
            <a:ext cx="419940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0520" y="1576080"/>
            <a:ext cx="419940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40880" y="3440880"/>
            <a:ext cx="419940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50520" y="3440880"/>
            <a:ext cx="419940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40880" y="415800"/>
            <a:ext cx="860580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3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40880" y="1576080"/>
            <a:ext cx="277092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50760" y="1576080"/>
            <a:ext cx="277092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60640" y="1576080"/>
            <a:ext cx="277092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740880" y="3440880"/>
            <a:ext cx="277092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650760" y="3440880"/>
            <a:ext cx="277092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560640" y="3440880"/>
            <a:ext cx="277092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40880" y="415800"/>
            <a:ext cx="860580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3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740880" y="1576080"/>
            <a:ext cx="860580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0880" y="415800"/>
            <a:ext cx="860580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3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40880" y="1576080"/>
            <a:ext cx="860580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40880" y="415800"/>
            <a:ext cx="860580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3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40880" y="1576080"/>
            <a:ext cx="419940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50520" y="1576080"/>
            <a:ext cx="419940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0880" y="415800"/>
            <a:ext cx="860580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3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40880" y="415800"/>
            <a:ext cx="860580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40880" y="415800"/>
            <a:ext cx="860580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3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40880" y="1576080"/>
            <a:ext cx="419940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0520" y="1576080"/>
            <a:ext cx="419940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740880" y="3440880"/>
            <a:ext cx="419940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40880" y="415800"/>
            <a:ext cx="860580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3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740880" y="1576080"/>
            <a:ext cx="860580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40880" y="415800"/>
            <a:ext cx="860580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3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40880" y="1576080"/>
            <a:ext cx="419940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50520" y="1576080"/>
            <a:ext cx="419940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50520" y="3440880"/>
            <a:ext cx="419940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40880" y="415800"/>
            <a:ext cx="860580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3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40880" y="1576080"/>
            <a:ext cx="419940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50520" y="1576080"/>
            <a:ext cx="419940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40880" y="3440880"/>
            <a:ext cx="860580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40880" y="415800"/>
            <a:ext cx="860580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3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40880" y="1576080"/>
            <a:ext cx="860580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740880" y="3440880"/>
            <a:ext cx="860580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40880" y="415800"/>
            <a:ext cx="860580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3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40880" y="1576080"/>
            <a:ext cx="419940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50520" y="1576080"/>
            <a:ext cx="419940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40880" y="3440880"/>
            <a:ext cx="419940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50520" y="3440880"/>
            <a:ext cx="419940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40880" y="415800"/>
            <a:ext cx="860580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3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40880" y="1576080"/>
            <a:ext cx="277092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650760" y="1576080"/>
            <a:ext cx="277092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560640" y="1576080"/>
            <a:ext cx="277092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740880" y="3440880"/>
            <a:ext cx="277092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650760" y="3440880"/>
            <a:ext cx="277092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560640" y="3440880"/>
            <a:ext cx="277092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0880" y="415800"/>
            <a:ext cx="860580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3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740880" y="1576080"/>
            <a:ext cx="860580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0880" y="415800"/>
            <a:ext cx="860580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3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0880" y="1576080"/>
            <a:ext cx="419940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50520" y="1576080"/>
            <a:ext cx="419940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40880" y="415800"/>
            <a:ext cx="860580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3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40880" y="415800"/>
            <a:ext cx="860580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0880" y="415800"/>
            <a:ext cx="860580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3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40880" y="1576080"/>
            <a:ext cx="419940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50520" y="1576080"/>
            <a:ext cx="419940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740880" y="3440880"/>
            <a:ext cx="419940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0880" y="415800"/>
            <a:ext cx="860580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3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40880" y="1576080"/>
            <a:ext cx="419940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50520" y="1576080"/>
            <a:ext cx="419940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50520" y="3440880"/>
            <a:ext cx="419940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40880" y="415800"/>
            <a:ext cx="860580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3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40880" y="1576080"/>
            <a:ext cx="419940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50520" y="1576080"/>
            <a:ext cx="419940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40880" y="3440880"/>
            <a:ext cx="860580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6360" y="90360"/>
            <a:ext cx="7737480" cy="1167120"/>
          </a:xfrm>
          <a:prstGeom prst="rect">
            <a:avLst/>
          </a:prstGeom>
          <a:solidFill>
            <a:srgbClr val="3465a4"/>
          </a:solidFill>
          <a:ln cap="sq" w="18000">
            <a:solidFill>
              <a:srgbClr val="ffb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738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404640" y="1420920"/>
            <a:ext cx="9674280" cy="4249800"/>
          </a:xfrm>
          <a:prstGeom prst="roundRect">
            <a:avLst>
              <a:gd name="adj" fmla="val 37"/>
            </a:avLst>
          </a:prstGeom>
          <a:solidFill>
            <a:srgbClr val="dddddd"/>
          </a:solidFill>
          <a:ln w="93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40880" y="415800"/>
            <a:ext cx="860580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3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33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740880" y="1576080"/>
            <a:ext cx="860580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181080" cy="689040"/>
          </a:xfrm>
          <a:custGeom>
            <a:avLst/>
            <a:gdLst>
              <a:gd name="textAreaLeft" fmla="*/ 360 w 181080"/>
              <a:gd name="textAreaRight" fmla="*/ 180720 w 181080"/>
              <a:gd name="textAreaTop" fmla="*/ 360 h 689040"/>
              <a:gd name="textAreaBottom" fmla="*/ 688680 h 689040"/>
            </a:gdLst>
            <a:ahLst/>
            <a:rect l="textAreaLeft" t="textAreaTop" r="textAreaRight" b="textAreaBottom"/>
            <a:pathLst>
              <a:path w="21600" h="82071">
                <a:moveTo>
                  <a:pt x="189" y="0"/>
                </a:moveTo>
                <a:arcTo wR="189" hR="189" stAng="16200000" swAng="-5400000"/>
                <a:lnTo>
                  <a:pt x="0" y="81882"/>
                </a:lnTo>
                <a:arcTo wR="189" hR="189" stAng="10800000" swAng="-5400000"/>
                <a:lnTo>
                  <a:pt x="21411" y="82071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785960"/>
            <a:ext cx="181080" cy="689040"/>
          </a:xfrm>
          <a:custGeom>
            <a:avLst/>
            <a:gdLst>
              <a:gd name="textAreaLeft" fmla="*/ 360 w 181080"/>
              <a:gd name="textAreaRight" fmla="*/ 180720 w 181080"/>
              <a:gd name="textAreaTop" fmla="*/ 360 h 689040"/>
              <a:gd name="textAreaBottom" fmla="*/ 688680 h 689040"/>
            </a:gdLst>
            <a:ahLst/>
            <a:rect l="textAreaLeft" t="textAreaTop" r="textAreaRight" b="textAreaBottom"/>
            <a:pathLst>
              <a:path w="21600" h="82071">
                <a:moveTo>
                  <a:pt x="189" y="0"/>
                </a:moveTo>
                <a:arcTo wR="189" hR="189" stAng="16200000" swAng="-5400000"/>
                <a:lnTo>
                  <a:pt x="0" y="81882"/>
                </a:lnTo>
                <a:arcTo wR="189" hR="189" stAng="10800000" swAng="-5400000"/>
                <a:lnTo>
                  <a:pt x="21411" y="82071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876240"/>
            <a:ext cx="181080" cy="689040"/>
          </a:xfrm>
          <a:custGeom>
            <a:avLst/>
            <a:gdLst>
              <a:gd name="textAreaLeft" fmla="*/ 360 w 181080"/>
              <a:gd name="textAreaRight" fmla="*/ 180720 w 181080"/>
              <a:gd name="textAreaTop" fmla="*/ 360 h 689040"/>
              <a:gd name="textAreaBottom" fmla="*/ 688680 h 689040"/>
            </a:gdLst>
            <a:ahLst/>
            <a:rect l="textAreaLeft" t="textAreaTop" r="textAreaRight" b="textAreaBottom"/>
            <a:pathLst>
              <a:path w="21600" h="82071">
                <a:moveTo>
                  <a:pt x="189" y="0"/>
                </a:moveTo>
                <a:arcTo wR="189" hR="189" stAng="16200000" swAng="-5400000"/>
                <a:lnTo>
                  <a:pt x="0" y="81882"/>
                </a:lnTo>
                <a:arcTo wR="189" hR="189" stAng="10800000" swAng="-5400000"/>
                <a:lnTo>
                  <a:pt x="21411" y="82071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treinamentolivre.com/unicarioca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431640" y="1368360"/>
            <a:ext cx="9178920" cy="4052880"/>
            <a:chOff x="431640" y="1368360"/>
            <a:chExt cx="9178920" cy="4052880"/>
          </a:xfrm>
        </p:grpSpPr>
        <p:sp>
          <p:nvSpPr>
            <p:cNvPr id="85" name=""/>
            <p:cNvSpPr/>
            <p:nvPr/>
          </p:nvSpPr>
          <p:spPr>
            <a:xfrm>
              <a:off x="431640" y="1368360"/>
              <a:ext cx="9178920" cy="405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560" bIns="46800" anchor="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  <a:ea typeface="DejaVu Sans"/>
                </a:rPr>
                <a:t>COORDENADOR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  <a:ea typeface="DejaVu Sans"/>
                </a:rPr>
                <a:t> </a:t>
              </a:r>
              <a:r>
                <a:rPr b="0" lang="pt-BR" sz="1800" spc="-1" strike="noStrike">
                  <a:solidFill>
                    <a:srgbClr val="000000"/>
                  </a:solidFill>
                  <a:latin typeface="Arial"/>
                  <a:ea typeface="DejaVu Sans"/>
                </a:rPr>
                <a:t>Professora Daisy Cristine Albuquerque da Silv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  <a:ea typeface="DejaVu Sans"/>
                </a:rPr>
                <a:t>MARKETING RH FINANÇAS E REDES SOCIAIS ANALYTIC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  <a:ea typeface="DejaVu Sans"/>
                </a:rPr>
                <a:t>Professora Andrea Costa Nascimen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  <a:ea typeface="DejaVu Sans"/>
                </a:rPr>
                <a:t>VISUALIZAÇÃO DE DA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  <a:ea typeface="DejaVu Sans"/>
                </a:rPr>
                <a:t>Professor Leonardo Bezerr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  <a:ea typeface="DejaVu Sans"/>
                </a:rPr>
                <a:t>Aluno:</a:t>
              </a:r>
              <a:r>
                <a:rPr b="0" lang="pt-BR" sz="1800" spc="-1" strike="noStrike">
                  <a:solidFill>
                    <a:srgbClr val="000000"/>
                  </a:solidFill>
                  <a:latin typeface="Arial"/>
                  <a:ea typeface="DejaVu Sans"/>
                </a:rPr>
                <a:t>  2024000029 - Paulo Cesar dos Sant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  <a:ea typeface="DejaVu Sans"/>
                </a:rPr>
                <a:t>e-mail: uniredes.br@gmail.co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 rot="21540000">
            <a:off x="283680" y="182160"/>
            <a:ext cx="1401840" cy="1368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1698480" y="360360"/>
            <a:ext cx="5075280" cy="662040"/>
            <a:chOff x="1698480" y="360360"/>
            <a:chExt cx="5075280" cy="662040"/>
          </a:xfrm>
        </p:grpSpPr>
        <p:sp>
          <p:nvSpPr>
            <p:cNvPr id="88" name=""/>
            <p:cNvSpPr/>
            <p:nvPr/>
          </p:nvSpPr>
          <p:spPr>
            <a:xfrm>
              <a:off x="1698480" y="360360"/>
              <a:ext cx="5075280" cy="66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89" name=""/>
          <p:cNvGraphicFramePr/>
          <p:nvPr/>
        </p:nvGraphicFramePr>
        <p:xfrm>
          <a:off x="1698480" y="169920"/>
          <a:ext cx="8140320" cy="974160"/>
        </p:xfrm>
        <a:graphic>
          <a:graphicData uri="http://schemas.openxmlformats.org/drawingml/2006/table">
            <a:tbl>
              <a:tblPr/>
              <a:tblGrid>
                <a:gridCol w="8140320"/>
              </a:tblGrid>
              <a:tr h="1215720">
                <a:tc>
                  <a:txBody>
                    <a:bodyPr lIns="36000" rIns="36000" tIns="51840" bIns="360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2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CENTRO UNIVERSITÁRIO UNICARIOC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2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Pós-Graduacao Em Ciência De Dados – 202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2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Trabalho - Módulo I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0000"/>
                    </a:solidFill>
                  </a:tcPr>
                </a:tc>
              </a:tr>
            </a:tbl>
          </a:graphicData>
        </a:graphic>
      </p:graphicFrame>
    </p:spTree>
  </p:cSld>
  <p:transition spd="slow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640" y="1368360"/>
            <a:ext cx="9178920" cy="4052880"/>
            <a:chOff x="431640" y="1368360"/>
            <a:chExt cx="9178920" cy="4052880"/>
          </a:xfrm>
        </p:grpSpPr>
        <p:sp>
          <p:nvSpPr>
            <p:cNvPr id="137" name=""/>
            <p:cNvSpPr/>
            <p:nvPr/>
          </p:nvSpPr>
          <p:spPr>
            <a:xfrm>
              <a:off x="431640" y="1368360"/>
              <a:ext cx="9178920" cy="405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560" bIns="46800" anchor="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t-BR" sz="2200" spc="-1" strike="noStrike">
                  <a:solidFill>
                    <a:srgbClr val="000000"/>
                  </a:solidFill>
                  <a:latin typeface="Arial"/>
                  <a:ea typeface="DejaVu Sans"/>
                </a:rPr>
                <a:t>O material desta apresentação e links úteis estarão em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pt-BR" sz="2200" spc="-1" strike="noStrike" u="sng">
                  <a:solidFill>
                    <a:srgbClr val="ccccff"/>
                  </a:solidFill>
                  <a:uFillTx/>
                  <a:latin typeface="Arial"/>
                  <a:ea typeface="DejaVu Sans"/>
                  <a:hlinkClick r:id="rId1"/>
                </a:rPr>
                <a:t>http://treinamentolivre.com/unicarioca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360360" y="71280"/>
            <a:ext cx="1338120" cy="11862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1698480" y="360360"/>
            <a:ext cx="5075280" cy="662040"/>
            <a:chOff x="1698480" y="360360"/>
            <a:chExt cx="5075280" cy="662040"/>
          </a:xfrm>
        </p:grpSpPr>
        <p:sp>
          <p:nvSpPr>
            <p:cNvPr id="140" name=""/>
            <p:cNvSpPr/>
            <p:nvPr/>
          </p:nvSpPr>
          <p:spPr>
            <a:xfrm>
              <a:off x="1698480" y="360360"/>
              <a:ext cx="5075280" cy="66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41" name=""/>
          <p:cNvGraphicFramePr/>
          <p:nvPr/>
        </p:nvGraphicFramePr>
        <p:xfrm>
          <a:off x="2211480" y="169920"/>
          <a:ext cx="6040080" cy="974160"/>
        </p:xfrm>
        <a:graphic>
          <a:graphicData uri="http://schemas.openxmlformats.org/drawingml/2006/table">
            <a:tbl>
              <a:tblPr/>
              <a:tblGrid>
                <a:gridCol w="6040080"/>
              </a:tblGrid>
              <a:tr h="974160">
                <a:tc>
                  <a:txBody>
                    <a:bodyPr lIns="36000" rIns="36000" tIns="51840" bIns="360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6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OBRIGADO !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0000"/>
                    </a:solidFill>
                  </a:tcPr>
                </a:tc>
              </a:tr>
            </a:tbl>
          </a:graphicData>
        </a:graphic>
      </p:graphicFrame>
    </p:spTree>
  </p:cSld>
  <p:transition spd="slow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431640" y="1368360"/>
            <a:ext cx="9178920" cy="4052880"/>
            <a:chOff x="431640" y="1368360"/>
            <a:chExt cx="9178920" cy="4052880"/>
          </a:xfrm>
        </p:grpSpPr>
        <p:sp>
          <p:nvSpPr>
            <p:cNvPr id="91" name=""/>
            <p:cNvSpPr/>
            <p:nvPr/>
          </p:nvSpPr>
          <p:spPr>
            <a:xfrm>
              <a:off x="431640" y="1368360"/>
              <a:ext cx="9178920" cy="405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560" bIns="46800" anchor="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16000" indent="-216000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16000" indent="-216000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16000" indent="-216000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marL="216000" indent="-216000">
                <a:lnSpc>
                  <a:spcPct val="93000"/>
                </a:lnSpc>
                <a:buClr>
                  <a:srgbClr val="000000"/>
                </a:buClr>
                <a:buSzPct val="45000"/>
                <a:buFont typeface="Wingdings" charset="2"/>
                <a:buChar char=""/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t-BR" sz="2200" spc="-1" strike="noStrike">
                  <a:solidFill>
                    <a:srgbClr val="000000"/>
                  </a:solidFill>
                  <a:latin typeface="Arial"/>
                  <a:ea typeface="DejaVu Sans"/>
                </a:rPr>
                <a:t>O TRF2 e sua atuação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marL="216000" indent="-216000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marL="216000" indent="-216000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marL="216000" indent="-216000">
                <a:lnSpc>
                  <a:spcPct val="93000"/>
                </a:lnSpc>
                <a:buClr>
                  <a:srgbClr val="000000"/>
                </a:buClr>
                <a:buSzPct val="45000"/>
                <a:buFont typeface="Wingdings" charset="2"/>
                <a:buChar char=""/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t-BR" sz="2200" spc="-1" strike="noStrike">
                  <a:solidFill>
                    <a:srgbClr val="000000"/>
                  </a:solidFill>
                  <a:latin typeface="Arial"/>
                  <a:ea typeface="DejaVu Sans"/>
                </a:rPr>
                <a:t>A substituição do sistema processual antigo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marL="216000" indent="-216000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360360" y="71280"/>
            <a:ext cx="1338120" cy="1186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1698480" y="360360"/>
            <a:ext cx="5075280" cy="662040"/>
            <a:chOff x="1698480" y="360360"/>
            <a:chExt cx="5075280" cy="662040"/>
          </a:xfrm>
        </p:grpSpPr>
        <p:sp>
          <p:nvSpPr>
            <p:cNvPr id="94" name=""/>
            <p:cNvSpPr/>
            <p:nvPr/>
          </p:nvSpPr>
          <p:spPr>
            <a:xfrm>
              <a:off x="1698480" y="360360"/>
              <a:ext cx="5075280" cy="66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95" name=""/>
          <p:cNvGraphicFramePr/>
          <p:nvPr/>
        </p:nvGraphicFramePr>
        <p:xfrm>
          <a:off x="2211480" y="169920"/>
          <a:ext cx="6040080" cy="974160"/>
        </p:xfrm>
        <a:graphic>
          <a:graphicData uri="http://schemas.openxmlformats.org/drawingml/2006/table">
            <a:tbl>
              <a:tblPr/>
              <a:tblGrid>
                <a:gridCol w="6040080"/>
              </a:tblGrid>
              <a:tr h="974160">
                <a:tc>
                  <a:txBody>
                    <a:bodyPr lIns="36000" rIns="36000" tIns="51840" bIns="360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6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Introdução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0000"/>
                    </a:solidFill>
                  </a:tcPr>
                </a:tc>
              </a:tr>
            </a:tbl>
          </a:graphicData>
        </a:graphic>
      </p:graphicFrame>
    </p:spTree>
  </p:cSld>
  <p:transition spd="slow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324000" y="1346040"/>
            <a:ext cx="9178920" cy="4052880"/>
            <a:chOff x="324000" y="1346040"/>
            <a:chExt cx="9178920" cy="4052880"/>
          </a:xfrm>
        </p:grpSpPr>
        <p:sp>
          <p:nvSpPr>
            <p:cNvPr id="97" name=""/>
            <p:cNvSpPr/>
            <p:nvPr/>
          </p:nvSpPr>
          <p:spPr>
            <a:xfrm>
              <a:off x="324000" y="1346040"/>
              <a:ext cx="9178920" cy="405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560" bIns="46800" anchor="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marL="216000" indent="-216000">
                <a:lnSpc>
                  <a:spcPct val="93000"/>
                </a:lnSpc>
                <a:buClr>
                  <a:srgbClr val="000000"/>
                </a:buClr>
                <a:buSzPct val="45000"/>
                <a:buFont typeface="Wingdings" charset="2"/>
                <a:buChar char=""/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t-BR" sz="2200" spc="-1" strike="noStrike">
                  <a:solidFill>
                    <a:srgbClr val="000000"/>
                  </a:solidFill>
                  <a:latin typeface="Arial"/>
                  <a:ea typeface="DejaVu Sans"/>
                </a:rPr>
                <a:t>Quanto custa o suporte ?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marL="216000" indent="-216000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marL="216000" indent="-216000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marL="216000" indent="-216000">
                <a:lnSpc>
                  <a:spcPct val="93000"/>
                </a:lnSpc>
                <a:buClr>
                  <a:srgbClr val="000000"/>
                </a:buClr>
                <a:buSzPct val="45000"/>
                <a:buFont typeface="Wingdings" charset="2"/>
                <a:buChar char=""/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t-BR" sz="2200" spc="-1" strike="noStrike">
                  <a:solidFill>
                    <a:srgbClr val="000000"/>
                  </a:solidFill>
                  <a:latin typeface="Arial"/>
                  <a:ea typeface="DejaVu Sans"/>
                </a:rPr>
                <a:t>Quanto custa cada implantação de versão nova ?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360360" y="71280"/>
            <a:ext cx="1338120" cy="1186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1698480" y="360360"/>
            <a:ext cx="5075280" cy="662040"/>
            <a:chOff x="1698480" y="360360"/>
            <a:chExt cx="5075280" cy="662040"/>
          </a:xfrm>
        </p:grpSpPr>
        <p:sp>
          <p:nvSpPr>
            <p:cNvPr id="100" name=""/>
            <p:cNvSpPr/>
            <p:nvPr/>
          </p:nvSpPr>
          <p:spPr>
            <a:xfrm>
              <a:off x="1698480" y="360360"/>
              <a:ext cx="5075280" cy="66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01" name=""/>
          <p:cNvGraphicFramePr/>
          <p:nvPr/>
        </p:nvGraphicFramePr>
        <p:xfrm>
          <a:off x="2211480" y="169920"/>
          <a:ext cx="6040080" cy="974160"/>
        </p:xfrm>
        <a:graphic>
          <a:graphicData uri="http://schemas.openxmlformats.org/drawingml/2006/table">
            <a:tbl>
              <a:tblPr/>
              <a:tblGrid>
                <a:gridCol w="6040080"/>
              </a:tblGrid>
              <a:tr h="974160">
                <a:tc>
                  <a:txBody>
                    <a:bodyPr lIns="36000" rIns="36000" tIns="51840" bIns="360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6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Problema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0000"/>
                    </a:solidFill>
                  </a:tcPr>
                </a:tc>
              </a:tr>
            </a:tbl>
          </a:graphicData>
        </a:graphic>
      </p:graphicFrame>
    </p:spTree>
  </p:cSld>
  <p:transition spd="slow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431640" y="1368360"/>
            <a:ext cx="9178920" cy="4052880"/>
            <a:chOff x="431640" y="1368360"/>
            <a:chExt cx="9178920" cy="4052880"/>
          </a:xfrm>
        </p:grpSpPr>
        <p:sp>
          <p:nvSpPr>
            <p:cNvPr id="103" name=""/>
            <p:cNvSpPr/>
            <p:nvPr/>
          </p:nvSpPr>
          <p:spPr>
            <a:xfrm>
              <a:off x="431640" y="1368360"/>
              <a:ext cx="9178920" cy="405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560" bIns="46800" anchor="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16000" indent="-216000">
                <a:lnSpc>
                  <a:spcPct val="93000"/>
                </a:lnSpc>
                <a:buClr>
                  <a:srgbClr val="000000"/>
                </a:buClr>
                <a:buSzPct val="45000"/>
                <a:buFont typeface="Wingdings" charset="2"/>
                <a:buChar char=""/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t-BR" sz="2200" spc="-1" strike="noStrike">
                  <a:solidFill>
                    <a:srgbClr val="000000"/>
                  </a:solidFill>
                  <a:latin typeface="Arial"/>
                  <a:ea typeface="DejaVu Sans"/>
                </a:rPr>
                <a:t>Liberação de pessoal de suporte para para capacitação e soluções novas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marL="216000" indent="-216000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marL="216000" indent="-216000">
                <a:lnSpc>
                  <a:spcPct val="93000"/>
                </a:lnSpc>
                <a:buClr>
                  <a:srgbClr val="000000"/>
                </a:buClr>
                <a:buSzPct val="45000"/>
                <a:buFont typeface="Wingdings" charset="2"/>
                <a:buChar char=""/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t-BR" sz="2200" spc="-1" strike="noStrike">
                  <a:solidFill>
                    <a:srgbClr val="000000"/>
                  </a:solidFill>
                  <a:latin typeface="Arial"/>
                  <a:ea typeface="DejaVu Sans"/>
                </a:rPr>
                <a:t>Determinar o custo de suporte ou alteração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marL="216000" indent="-216000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marL="216000" indent="-216000">
                <a:lnSpc>
                  <a:spcPct val="93000"/>
                </a:lnSpc>
                <a:buClr>
                  <a:srgbClr val="000000"/>
                </a:buClr>
                <a:buSzPct val="45000"/>
                <a:buFont typeface="Wingdings" charset="2"/>
                <a:buChar char=""/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t-BR" sz="2200" spc="-1" strike="noStrike">
                  <a:solidFill>
                    <a:srgbClr val="000000"/>
                  </a:solidFill>
                  <a:latin typeface="Arial"/>
                  <a:ea typeface="DejaVu Sans"/>
                </a:rPr>
                <a:t>Aumento da popularidade da TI junto à alta direção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marL="216000" indent="-216000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marL="216000" indent="-216000">
                <a:lnSpc>
                  <a:spcPct val="93000"/>
                </a:lnSpc>
                <a:buClr>
                  <a:srgbClr val="000000"/>
                </a:buClr>
                <a:buSzPct val="45000"/>
                <a:buFont typeface="Wingdings" charset="2"/>
                <a:buChar char=""/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t-BR" sz="2200" spc="-1" strike="noStrike">
                  <a:solidFill>
                    <a:srgbClr val="000000"/>
                  </a:solidFill>
                  <a:latin typeface="Arial"/>
                  <a:ea typeface="DejaVu Sans"/>
                </a:rPr>
                <a:t>Avaliar dinamicamente o esforço da equip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360360" y="71280"/>
            <a:ext cx="1338120" cy="1186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698480" y="360360"/>
            <a:ext cx="5075280" cy="662040"/>
            <a:chOff x="1698480" y="360360"/>
            <a:chExt cx="5075280" cy="662040"/>
          </a:xfrm>
        </p:grpSpPr>
        <p:sp>
          <p:nvSpPr>
            <p:cNvPr id="106" name=""/>
            <p:cNvSpPr/>
            <p:nvPr/>
          </p:nvSpPr>
          <p:spPr>
            <a:xfrm>
              <a:off x="1698480" y="360360"/>
              <a:ext cx="5075280" cy="66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07" name=""/>
          <p:cNvGraphicFramePr/>
          <p:nvPr/>
        </p:nvGraphicFramePr>
        <p:xfrm>
          <a:off x="2211480" y="169920"/>
          <a:ext cx="6040080" cy="974160"/>
        </p:xfrm>
        <a:graphic>
          <a:graphicData uri="http://schemas.openxmlformats.org/drawingml/2006/table">
            <a:tbl>
              <a:tblPr/>
              <a:tblGrid>
                <a:gridCol w="6040080"/>
              </a:tblGrid>
              <a:tr h="974160">
                <a:tc>
                  <a:txBody>
                    <a:bodyPr lIns="36000" rIns="36000" tIns="51840" bIns="360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6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Propósito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0000"/>
                    </a:solidFill>
                  </a:tcPr>
                </a:tc>
              </a:tr>
            </a:tbl>
          </a:graphicData>
        </a:graphic>
      </p:graphicFrame>
    </p:spTree>
  </p:cSld>
  <p:transition spd="slow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"/>
          <p:cNvGrpSpPr/>
          <p:nvPr/>
        </p:nvGrpSpPr>
        <p:grpSpPr>
          <a:xfrm>
            <a:off x="431640" y="1368360"/>
            <a:ext cx="9178920" cy="4052880"/>
            <a:chOff x="431640" y="1368360"/>
            <a:chExt cx="9178920" cy="4052880"/>
          </a:xfrm>
        </p:grpSpPr>
        <p:sp>
          <p:nvSpPr>
            <p:cNvPr id="109" name=""/>
            <p:cNvSpPr/>
            <p:nvPr/>
          </p:nvSpPr>
          <p:spPr>
            <a:xfrm>
              <a:off x="431640" y="1368360"/>
              <a:ext cx="9178920" cy="405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560" bIns="46800" anchor="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16000" indent="-216000">
                <a:lnSpc>
                  <a:spcPct val="93000"/>
                </a:lnSpc>
                <a:buClr>
                  <a:srgbClr val="000000"/>
                </a:buClr>
                <a:buSzPct val="45000"/>
                <a:buFont typeface="Wingdings" charset="2"/>
                <a:buChar char=""/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t-BR" sz="2200" spc="-1" strike="noStrike">
                  <a:solidFill>
                    <a:srgbClr val="000000"/>
                  </a:solidFill>
                  <a:latin typeface="Arial"/>
                  <a:ea typeface="DejaVu Sans"/>
                </a:rPr>
                <a:t>Cotação do dolar (IPEA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marL="216000" indent="-216000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marL="216000" indent="-216000">
                <a:lnSpc>
                  <a:spcPct val="93000"/>
                </a:lnSpc>
                <a:buClr>
                  <a:srgbClr val="000000"/>
                </a:buClr>
                <a:buSzPct val="45000"/>
                <a:buFont typeface="Wingdings" charset="2"/>
                <a:buChar char=""/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t-BR" sz="2200" spc="-1" strike="noStrike">
                  <a:solidFill>
                    <a:srgbClr val="000000"/>
                  </a:solidFill>
                  <a:latin typeface="Arial"/>
                  <a:ea typeface="DejaVu Sans"/>
                </a:rPr>
                <a:t>Base de dados do sistema de Helpdesk GLP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marL="216000" indent="-216000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marL="216000" indent="-216000">
                <a:lnSpc>
                  <a:spcPct val="93000"/>
                </a:lnSpc>
                <a:buClr>
                  <a:srgbClr val="000000"/>
                </a:buClr>
                <a:buSzPct val="45000"/>
                <a:buFont typeface="Wingdings" charset="2"/>
                <a:buChar char=""/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t-BR" sz="2200" spc="-1" strike="noStrike">
                  <a:solidFill>
                    <a:srgbClr val="000000"/>
                  </a:solidFill>
                  <a:latin typeface="Arial"/>
                  <a:ea typeface="DejaVu Sans"/>
                </a:rPr>
                <a:t>Dados de lançamento de versão (informados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marL="216000" indent="-216000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marL="216000" indent="-216000">
                <a:lnSpc>
                  <a:spcPct val="93000"/>
                </a:lnSpc>
                <a:buClr>
                  <a:srgbClr val="000000"/>
                </a:buClr>
                <a:buSzPct val="45000"/>
                <a:buFont typeface="Wingdings" charset="2"/>
                <a:buChar char=""/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t-BR" sz="2200" spc="-1" strike="noStrike">
                  <a:solidFill>
                    <a:srgbClr val="000000"/>
                  </a:solidFill>
                  <a:latin typeface="Arial"/>
                  <a:ea typeface="DejaVu Sans"/>
                </a:rPr>
                <a:t>Insights dos gerentes de atendimento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marL="216000" indent="-216000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marL="216000" indent="-216000">
                <a:lnSpc>
                  <a:spcPct val="93000"/>
                </a:lnSpc>
                <a:buClr>
                  <a:srgbClr val="000000"/>
                </a:buClr>
                <a:buSzPct val="45000"/>
                <a:buFont typeface="Wingdings" charset="2"/>
                <a:buChar char=""/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t-BR" sz="2200" spc="-1" strike="noStrike">
                  <a:solidFill>
                    <a:srgbClr val="000000"/>
                  </a:solidFill>
                  <a:latin typeface="Arial"/>
                  <a:ea typeface="DejaVu Sans"/>
                </a:rPr>
                <a:t>Tabela de unidades de atendimento do GLP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marL="216000" indent="-216000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marL="216000" indent="-216000">
                <a:lnSpc>
                  <a:spcPct val="93000"/>
                </a:lnSpc>
                <a:buClr>
                  <a:srgbClr val="000000"/>
                </a:buClr>
                <a:buSzPct val="45000"/>
                <a:buFont typeface="Wingdings" charset="2"/>
                <a:buChar char=""/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t-BR" sz="2200" spc="-1" strike="noStrike">
                  <a:solidFill>
                    <a:srgbClr val="000000"/>
                  </a:solidFill>
                  <a:latin typeface="Arial"/>
                  <a:ea typeface="DejaVu Sans"/>
                </a:rPr>
                <a:t>(Metabase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360360" y="71280"/>
            <a:ext cx="1338120" cy="1186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1698480" y="360360"/>
            <a:ext cx="5075280" cy="662040"/>
            <a:chOff x="1698480" y="360360"/>
            <a:chExt cx="5075280" cy="662040"/>
          </a:xfrm>
        </p:grpSpPr>
        <p:sp>
          <p:nvSpPr>
            <p:cNvPr id="112" name=""/>
            <p:cNvSpPr/>
            <p:nvPr/>
          </p:nvSpPr>
          <p:spPr>
            <a:xfrm>
              <a:off x="1698480" y="360360"/>
              <a:ext cx="5075280" cy="66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13" name=""/>
          <p:cNvGraphicFramePr/>
          <p:nvPr/>
        </p:nvGraphicFramePr>
        <p:xfrm>
          <a:off x="2211480" y="169920"/>
          <a:ext cx="6040080" cy="974160"/>
        </p:xfrm>
        <a:graphic>
          <a:graphicData uri="http://schemas.openxmlformats.org/drawingml/2006/table">
            <a:tbl>
              <a:tblPr/>
              <a:tblGrid>
                <a:gridCol w="6040080"/>
              </a:tblGrid>
              <a:tr h="974160">
                <a:tc>
                  <a:txBody>
                    <a:bodyPr lIns="36000" rIns="36000" tIns="51840" bIns="360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6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Fontes de Dado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0000"/>
                    </a:solidFill>
                  </a:tcPr>
                </a:tc>
              </a:tr>
            </a:tbl>
          </a:graphicData>
        </a:graphic>
      </p:graphicFrame>
    </p:spTree>
  </p:cSld>
  <p:transition spd="slow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539640" y="1295280"/>
            <a:ext cx="9178920" cy="4052880"/>
            <a:chOff x="539640" y="1295280"/>
            <a:chExt cx="9178920" cy="4052880"/>
          </a:xfrm>
        </p:grpSpPr>
        <p:sp>
          <p:nvSpPr>
            <p:cNvPr id="115" name=""/>
            <p:cNvSpPr/>
            <p:nvPr/>
          </p:nvSpPr>
          <p:spPr>
            <a:xfrm>
              <a:off x="539640" y="1295280"/>
              <a:ext cx="9178920" cy="405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560" bIns="46800" anchor="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t-BR" sz="2200" spc="-1" strike="noStrike">
                  <a:solidFill>
                    <a:srgbClr val="000000"/>
                  </a:solidFill>
                  <a:latin typeface="Arial"/>
                  <a:ea typeface="DejaVu Sans"/>
                </a:rPr>
                <a:t>Vejam a seguir definição do dashboard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360360" y="71280"/>
            <a:ext cx="1338120" cy="1186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1698480" y="360360"/>
            <a:ext cx="5075280" cy="662040"/>
            <a:chOff x="1698480" y="360360"/>
            <a:chExt cx="5075280" cy="662040"/>
          </a:xfrm>
        </p:grpSpPr>
        <p:sp>
          <p:nvSpPr>
            <p:cNvPr id="118" name=""/>
            <p:cNvSpPr/>
            <p:nvPr/>
          </p:nvSpPr>
          <p:spPr>
            <a:xfrm>
              <a:off x="1698480" y="360360"/>
              <a:ext cx="5075280" cy="66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19" name=""/>
          <p:cNvGraphicFramePr/>
          <p:nvPr/>
        </p:nvGraphicFramePr>
        <p:xfrm>
          <a:off x="2211480" y="169920"/>
          <a:ext cx="6040080" cy="974160"/>
        </p:xfrm>
        <a:graphic>
          <a:graphicData uri="http://schemas.openxmlformats.org/drawingml/2006/table">
            <a:tbl>
              <a:tblPr/>
              <a:tblGrid>
                <a:gridCol w="6040080"/>
              </a:tblGrid>
              <a:tr h="974160">
                <a:tc>
                  <a:txBody>
                    <a:bodyPr lIns="36000" rIns="36000" tIns="51840" bIns="360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6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Visualização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0000"/>
                    </a:solidFill>
                  </a:tcPr>
                </a:tc>
              </a:tr>
            </a:tbl>
          </a:graphicData>
        </a:graphic>
      </p:graphicFrame>
    </p:spTree>
  </p:cSld>
  <p:transition spd="slow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60360" y="71280"/>
            <a:ext cx="1338120" cy="1186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1698480" y="360360"/>
            <a:ext cx="5075280" cy="662040"/>
            <a:chOff x="1698480" y="360360"/>
            <a:chExt cx="5075280" cy="662040"/>
          </a:xfrm>
        </p:grpSpPr>
        <p:sp>
          <p:nvSpPr>
            <p:cNvPr id="122" name=""/>
            <p:cNvSpPr/>
            <p:nvPr/>
          </p:nvSpPr>
          <p:spPr>
            <a:xfrm>
              <a:off x="1698480" y="360360"/>
              <a:ext cx="5075280" cy="66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23" name=""/>
          <p:cNvGraphicFramePr/>
          <p:nvPr/>
        </p:nvGraphicFramePr>
        <p:xfrm>
          <a:off x="2211480" y="169920"/>
          <a:ext cx="6040080" cy="974160"/>
        </p:xfrm>
        <a:graphic>
          <a:graphicData uri="http://schemas.openxmlformats.org/drawingml/2006/table">
            <a:tbl>
              <a:tblPr/>
              <a:tblGrid>
                <a:gridCol w="6040080"/>
              </a:tblGrid>
              <a:tr h="974160">
                <a:tc>
                  <a:txBody>
                    <a:bodyPr lIns="36000" rIns="36000" tIns="51840" bIns="360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6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Visualização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0000"/>
                    </a:solidFill>
                  </a:tcPr>
                </a:tc>
              </a:tr>
            </a:tbl>
          </a:graphicData>
        </a:graphic>
      </p:graphicFrame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272880" y="9360"/>
            <a:ext cx="9604440" cy="56692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60360" y="71280"/>
            <a:ext cx="1338120" cy="1186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1698480" y="360360"/>
            <a:ext cx="5075280" cy="662040"/>
            <a:chOff x="1698480" y="360360"/>
            <a:chExt cx="5075280" cy="662040"/>
          </a:xfrm>
        </p:grpSpPr>
        <p:sp>
          <p:nvSpPr>
            <p:cNvPr id="127" name=""/>
            <p:cNvSpPr/>
            <p:nvPr/>
          </p:nvSpPr>
          <p:spPr>
            <a:xfrm>
              <a:off x="1698480" y="360360"/>
              <a:ext cx="5075280" cy="66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28" name=""/>
          <p:cNvGraphicFramePr/>
          <p:nvPr/>
        </p:nvGraphicFramePr>
        <p:xfrm>
          <a:off x="2211480" y="169920"/>
          <a:ext cx="6040080" cy="974160"/>
        </p:xfrm>
        <a:graphic>
          <a:graphicData uri="http://schemas.openxmlformats.org/drawingml/2006/table">
            <a:tbl>
              <a:tblPr/>
              <a:tblGrid>
                <a:gridCol w="6040080"/>
              </a:tblGrid>
              <a:tr h="974160">
                <a:tc>
                  <a:txBody>
                    <a:bodyPr lIns="36000" rIns="36000" tIns="51840" bIns="360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6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Visualização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0000"/>
                    </a:solidFill>
                  </a:tcPr>
                </a:tc>
              </a:tr>
            </a:tbl>
          </a:graphicData>
        </a:graphic>
      </p:graphicFrame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272880" y="9360"/>
            <a:ext cx="9604440" cy="56692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"/>
          <p:cNvGrpSpPr/>
          <p:nvPr/>
        </p:nvGrpSpPr>
        <p:grpSpPr>
          <a:xfrm>
            <a:off x="431640" y="1368360"/>
            <a:ext cx="9178920" cy="4052880"/>
            <a:chOff x="431640" y="1368360"/>
            <a:chExt cx="9178920" cy="4052880"/>
          </a:xfrm>
        </p:grpSpPr>
        <p:sp>
          <p:nvSpPr>
            <p:cNvPr id="131" name=""/>
            <p:cNvSpPr/>
            <p:nvPr/>
          </p:nvSpPr>
          <p:spPr>
            <a:xfrm>
              <a:off x="431640" y="1368360"/>
              <a:ext cx="9178920" cy="405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560" bIns="46800" anchor="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16000" indent="-216000">
                <a:lnSpc>
                  <a:spcPct val="93000"/>
                </a:lnSpc>
                <a:buClr>
                  <a:srgbClr val="000000"/>
                </a:buClr>
                <a:buSzPct val="45000"/>
                <a:buFont typeface="Wingdings" charset="2"/>
                <a:buChar char=""/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t-BR" sz="2200" spc="-1" strike="noStrike">
                  <a:solidFill>
                    <a:srgbClr val="000000"/>
                  </a:solidFill>
                  <a:latin typeface="Arial"/>
                  <a:ea typeface="DejaVu Sans"/>
                </a:rPr>
                <a:t>Os custos de suporte e alterações do e-proc aumentam numa escala de 10 à época das novas versões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marL="216000" indent="-216000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marL="216000" indent="-216000">
                <a:lnSpc>
                  <a:spcPct val="93000"/>
                </a:lnSpc>
                <a:buClr>
                  <a:srgbClr val="000000"/>
                </a:buClr>
                <a:buSzPct val="45000"/>
                <a:buFont typeface="Wingdings" charset="2"/>
                <a:buChar char=""/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t-BR" sz="2200" spc="-1" strike="noStrike">
                  <a:solidFill>
                    <a:srgbClr val="000000"/>
                  </a:solidFill>
                  <a:latin typeface="Arial"/>
                  <a:ea typeface="DejaVu Sans"/>
                </a:rPr>
                <a:t>O e-proc é um sistema de suporte caro, apesar de ser apresentado como software livre , portanto, gratuito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marL="216000" indent="-216000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marL="216000" indent="-216000">
                <a:lnSpc>
                  <a:spcPct val="93000"/>
                </a:lnSpc>
                <a:buClr>
                  <a:srgbClr val="000000"/>
                </a:buClr>
                <a:buSzPct val="45000"/>
                <a:buFont typeface="Wingdings" charset="2"/>
                <a:buChar char=""/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t-BR" sz="2200" spc="-1" strike="noStrike">
                  <a:solidFill>
                    <a:srgbClr val="000000"/>
                  </a:solidFill>
                  <a:latin typeface="Arial"/>
                  <a:ea typeface="DejaVu Sans"/>
                </a:rPr>
                <a:t>O pessoal de N3 e N2 usado no suporte ao Apolo poderia ser usado em atividades criativas, restaurando hoje à STI o papel ocupado pelo escritório de inovação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360360" y="71280"/>
            <a:ext cx="1338120" cy="1186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698480" y="360360"/>
            <a:ext cx="5075280" cy="662040"/>
            <a:chOff x="1698480" y="360360"/>
            <a:chExt cx="5075280" cy="662040"/>
          </a:xfrm>
        </p:grpSpPr>
        <p:sp>
          <p:nvSpPr>
            <p:cNvPr id="134" name=""/>
            <p:cNvSpPr/>
            <p:nvPr/>
          </p:nvSpPr>
          <p:spPr>
            <a:xfrm>
              <a:off x="1698480" y="360360"/>
              <a:ext cx="5075280" cy="66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35" name=""/>
          <p:cNvGraphicFramePr/>
          <p:nvPr/>
        </p:nvGraphicFramePr>
        <p:xfrm>
          <a:off x="2211480" y="169920"/>
          <a:ext cx="6040080" cy="974160"/>
        </p:xfrm>
        <a:graphic>
          <a:graphicData uri="http://schemas.openxmlformats.org/drawingml/2006/table">
            <a:tbl>
              <a:tblPr/>
              <a:tblGrid>
                <a:gridCol w="6040080"/>
              </a:tblGrid>
              <a:tr h="974160">
                <a:tc>
                  <a:txBody>
                    <a:bodyPr lIns="36000" rIns="36000" tIns="51840" bIns="360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6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Hipótese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0000"/>
                    </a:solidFill>
                  </a:tcPr>
                </a:tc>
              </a:tr>
            </a:tbl>
          </a:graphicData>
        </a:graphic>
      </p:graphicFrame>
    </p:spTree>
  </p:cSld>
  <p:transition spd="slow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aulo Cesar dos Santos</dc:creator>
  <dc:description/>
  <dc:language>en-US</dc:language>
  <cp:lastModifiedBy>Aula</cp:lastModifiedBy>
  <dcterms:modified xsi:type="dcterms:W3CDTF">2023-09-25T22:50:52Z</dcterms:modified>
  <cp:revision>38</cp:revision>
  <dc:subject/>
  <dc:title>Apresentação do PowerPoint</dc:title>
</cp:coreProperties>
</file>